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2.gif" ContentType="image/gif"/>
  <Override PartName="/ppt/media/image15.png" ContentType="image/png"/>
  <Override PartName="/ppt/media/image10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gif" ContentType="image/gi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DE0-AFEB-4C32-9AEA-DF9C3BAC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538-452F-4F3B-A4E3-716429BB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FD7-2B21-428C-B2B9-73EFBA4A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114-304C-4F8C-91D1-B8A7155D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2A4-30B5-42C7-A6C0-3340756E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1D3-D400-4DF4-9932-4A257D98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BC4-1B5F-4575-B2E8-327C7566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6C7-9E88-4C5D-BBA1-03CDF00A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AE8-CA55-496F-9777-F20EF7AC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C9F-DA91-4DDC-90E8-B5FB74E3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BA0-07DA-4CC2-A1C7-E9AC4005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67B-CE3A-4C01-990F-079D1834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71AB-7B57-4738-8192-981438670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ubblegumclub.com/Characters/Anims/page3/pig.gif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ubblegumclub.com/Characters/Anims/page3/pig.gif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47920" y="152280"/>
          <a:ext cx="6019560" cy="499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280"/>
                    <a:ext cx="6019560" cy="49960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315200" y="5181480"/>
            <a:ext cx="1666800" cy="1419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57150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h I had a pig and the pig was f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752480" y="228600"/>
          <a:ext cx="54864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486400" cy="5143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0" y="57150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e knows just where her dinner’s 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696080" y="5410080"/>
            <a:ext cx="1285920" cy="10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52480" y="3886200"/>
            <a:ext cx="1667160" cy="1419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1666800" cy="1419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95280" y="55627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d the piggy, feed that pi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152280"/>
            <a:ext cx="5181480" cy="3657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ggy" descr=""/>
          <p:cNvPicPr/>
          <p:nvPr/>
        </p:nvPicPr>
        <p:blipFill>
          <a:blip r:embed="rId3"/>
          <a:stretch/>
        </p:blipFill>
        <p:spPr>
          <a:xfrm>
            <a:off x="2514600" y="380880"/>
            <a:ext cx="41911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1667160" cy="1419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71600" y="58672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d the pig, she’s really bi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57600" y="4495680"/>
            <a:ext cx="1666800" cy="1419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666800" cy="14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981080" y="380880"/>
          <a:ext cx="5305680" cy="402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380880"/>
                    <a:ext cx="53056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380880"/>
          <a:ext cx="7391520" cy="50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7391520" cy="501804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80880" y="563868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d her ‘til her tummy’s so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086600" y="5638680"/>
            <a:ext cx="12193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981080" y="228600"/>
          <a:ext cx="54864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5143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57150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look out, she’ll be back for mo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705800" y="5334120"/>
            <a:ext cx="1438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g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68580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752480" y="3886200"/>
            <a:ext cx="1667160" cy="1419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105520" y="3962520"/>
            <a:ext cx="1666800" cy="1419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95280" y="55627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d the piggy, feed that pi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52280"/>
            <a:ext cx="5181480" cy="3657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1667160" cy="1419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71600" y="58672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d the pig, she’s really bi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657600" y="4495680"/>
            <a:ext cx="1666800" cy="141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666800" cy="1409760"/>
          </a:xfrm>
          <a:prstGeom prst="rect">
            <a:avLst/>
          </a:prstGeom>
          <a:ln w="0">
            <a:noFill/>
          </a:ln>
        </p:spPr>
      </p:pic>
      <p:pic>
        <p:nvPicPr>
          <p:cNvPr id="114" name="pig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5486400" cy="412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219320" y="152280"/>
          <a:ext cx="6629400" cy="501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280"/>
                    <a:ext cx="6629400" cy="5016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28600" y="57150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e wore a great big floppy h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086600" y="5286240"/>
            <a:ext cx="16668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g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68580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52480" y="3886200"/>
            <a:ext cx="1667160" cy="141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105520" y="3962520"/>
            <a:ext cx="1666800" cy="1419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95280" y="55627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d the piggy, feed that pi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52280"/>
            <a:ext cx="5181480" cy="3657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g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410080" cy="4138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95280" y="4495680"/>
            <a:ext cx="1667160" cy="1419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58672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d the pig, she’s really bi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657600" y="4495680"/>
            <a:ext cx="1666800" cy="1419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791320" y="4495680"/>
            <a:ext cx="1666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447920" y="152280"/>
          <a:ext cx="6019560" cy="499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280"/>
                    <a:ext cx="6019560" cy="49960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315200" y="5181480"/>
            <a:ext cx="1666800" cy="1419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57150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h I had a pig and the pig was f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600200" y="228600"/>
          <a:ext cx="5791320" cy="52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"/>
                    <a:ext cx="5791320" cy="52052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28600" y="57150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ght in front of the trough she s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543800" y="5257800"/>
            <a:ext cx="14382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52480" y="3886200"/>
            <a:ext cx="1667160" cy="1419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1666800" cy="1419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95280" y="55627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d the piggy, feed that pi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52280"/>
            <a:ext cx="5181480" cy="3657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ggy" descr=""/>
          <p:cNvPicPr/>
          <p:nvPr/>
        </p:nvPicPr>
        <p:blipFill>
          <a:blip r:embed="rId3"/>
          <a:stretch/>
        </p:blipFill>
        <p:spPr>
          <a:xfrm>
            <a:off x="2514600" y="380880"/>
            <a:ext cx="41911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1667160" cy="1419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71600" y="58672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d the pig, she’s really bi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657600" y="4495680"/>
            <a:ext cx="1666800" cy="1419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666800" cy="14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1981080" y="380880"/>
          <a:ext cx="5305680" cy="402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380880"/>
                    <a:ext cx="53056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47920" y="152280"/>
          <a:ext cx="6019560" cy="499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280"/>
                    <a:ext cx="6019560" cy="49960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315200" y="5181480"/>
            <a:ext cx="1666800" cy="1419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57150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h I had a pig and the pig was f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4:50:52Z</dcterms:created>
  <dc:creator>Carol Shockley</dc:creator>
  <dc:description/>
  <dc:language>en-US</dc:language>
  <cp:lastModifiedBy>Carol Shockley</cp:lastModifiedBy>
  <dcterms:modified xsi:type="dcterms:W3CDTF">2002-10-14T20:57:59Z</dcterms:modified>
  <cp:revision>8</cp:revision>
  <dc:subject/>
  <dc:title>PowerPoint Presentation</dc:title>
</cp:coreProperties>
</file>